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338-A3EF-4AD9-A95D-6D3BD513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33E0-70DE-47F9-BA8E-24B101D7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A698-CEAE-4636-9B3F-7A8D0030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B708-41EA-4D3B-8AE2-0880F84C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FAA3-9295-48D0-8529-156F1736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A453-6DE9-4B1D-A1BB-610AB34F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189F-C980-4793-BD04-67FDA0E6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160C-1834-45D5-BB5D-09A500F2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BCAB-6BBD-49D5-99B5-170EF39F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5FE7-F7FB-4A4E-9F26-E259F9A8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56DB-0E36-4710-88E5-DFD3A253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C2DB-BB13-46F5-AAF2-AFF0A3D9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CFC2-94DF-4BCE-8768-C9E0D26A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7BE0-A097-42FA-BC78-CFE8BA23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FDD9-8D71-4420-B46B-2396E2E0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2648-C0CB-4F05-A2B8-1272EFA9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10A8-E5ED-4BA6-80EB-C17976DF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D21A-E96A-4185-B636-B4758E19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83E3-80E4-474E-8D8D-D2818043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F6D-BBB0-4140-BFAD-B2FCC444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0DBB-7E96-4D7B-B1E2-CBF48B75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76C8-4CFF-45A7-A066-5C6E25F4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EB1-AE58-4435-ACCB-234A0479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56AB-722C-4EC9-B7F3-B6DC0472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BE25-0773-4BB8-8048-9BC72CD1208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D80F-86C1-4127-B75F-42D2FF396FC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třeba přistupovat ke každému člověku stejným způsobem nehledě na rasu, sexuální orientaci, pohlaví, fyzický vzhled nebo další odlišnosti, patří </a:t>
            </a:r>
            <a:br>
              <a:rPr sz="1600"/>
            </a:b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současnosti mezi jednu z hlavních zásad života ve společ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incip rovných příležitostí znamená potírání diskriminace a předcházení diskriminaci na základě pohlaví, rasy, etnického původu, náboženského vyznání, víry, zdravotního postižení, věku či sexuální orient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erovnost na základě pohlaví lze identifikovat i v rámci jednotlivých sociálně ohrožených skupin, jedná se pak o kombinaci několika znevýhodňujících faktor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ovné příležitosti pro muže a žen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= 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absenc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 překážek bránících občanům na základě jejich příslušnosti k pohlaví v účasti na ekonomice, politice a v sociální oblasti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ílem politiky rovnosti žen a mužů je zajistit, aby ženy i muži měli stejná práva, povinnosti a příležitosti ve všech sférách živo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ormální rovnost (de jure) je pouze první krok k skutečné rovnosti (de fac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43f7e"/>
                </a:solidFill>
                <a:latin typeface="Arial"/>
              </a:rPr>
              <a:t>Otázka rovnosti žen a mužů jako jeden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e základních cílů Evropského společenstv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Římská smlouva (1957)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 obsahovala ustanovení zavádějící princip rovného odměňování pro ženy a muž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Plán Komise pro dosažení rovného postavení žen a mužů 2006 - 2010 (Roadmap)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tejná ekonomická nezávislost pro ženy i muže; sladění soukromého a profesního života; stejné zastoupení žen a mužů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rozhodovacích procesech; odstraňování všech forem násilí založeného na pohlaví; odstraňování stereotypů o roli žen a mužů ve společnosti ; podpora rovného postavení žen a mužů v zahraniční a rozvojové politi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trategie EU pro rovnost žen a mužů 2010 – 2015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výšit počet žen na trhu práce, a pomoci tak při dosahování cílové míry zaměstnanosti stanovené ve strategii Evropa 2020 (tj. 75 % celkově pro muže i ženy), zvýšit počet žen na vysokých pozicích, podpořit podnikání žen, zavést rovnost v odměňování (ženy vydělávají v průměru o zhruba 18 % méně než jejich mužští kolegové), spolupracovat se všemi členskými státy při potírání násilí na žen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Evropský pakt pro rovnost žen a mužů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řijat na zasedání Evropské rady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březnu 2006, deklaruje politickou vůli vrcholných představitelů členských států EU zajistit rovné postavení žen a mužů na trhu práce a potírání stereotypních předsudků o roli žen a mužů v zaměstnání,  zlepšení podmínek pro sladění pracovního a rodinného života žen a mužů a posílení hlediska rovnosti žen a mužů ve všech plánovacích a rozhodovacích procesech (gender mainstream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Rovné příležitosti žen a mužů také tvoří významnou součást aktivit Evropského sociálního fondu.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innost dodržovat rovné příležitosti vyplývá pro Českou republiku z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nařízení Rady (ES) č. 1083 / 2006 / čl. 16 / Rovné příležitosti žen a mužů a zákaz diskrimin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„Členské státy a Komise zajistí podporu rovnosti žen a mužů a začlenění hlediska rovnosti pohlaví během jednotlivých fází provádění pomoci z fondů. Členské státy a Komise přijmou vhodná opatření, aby v jednotlivých fázích provádění fondů, a zejména při přístupu k nim, nedocházelo k diskriminaci na základě pohlaví, rasy nebo etnického původu, náboženského vyznání nebo světového názoru, zdravotního postižení, věku nebo sexuální orientace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rojekty Evropského sociálního fond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y měly jít v tomto ohledu ostatním příkladem. Měly by prokázat, že dodržováním principů a zásad horizontálních témat nedochází pouze k plnění administrativních požadavků (spojených s využíváním finančních prostředků Evropského sociálního fondu), ale především k přínosnému a prospěšnému kroku pro všech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naha ŘO, aby v rámci horizontálního tématu rovné příležitosti nedocházelo pouze k formálnímu napln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lánované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měny při aplikaci horizontálního tématu rovné příležitosti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rámci OP LZZ v příštím programovacím obdob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ilotní otestování plánovaných změn v rámci výzvy 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inná příloha výzvy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hodnocení rovnosti žen a mužů v projektových žádostech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v budoucnu by měla být přímo součástí projektové žádosti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nahradit tak stávající otázky na záložce Horizontální téma rovné příležitosti v aplikaci Benefit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ůrný dokument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okyny pro vyplnění přílohy Zhodnocení rovnosti žen </a:t>
            </a:r>
            <a:br>
              <a:rPr sz="1800"/>
            </a:b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a mužů v projektových žádostech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: návod a pomůcka, jak správně zapracovat hledisko rovnosti žen a mužů do žádosti o finanční podporu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 budoucnu přispět k posílení horizontálního tématu rovné příležitosti v celém OP LZZ. Naleznete zde vysvětlení, co by měly obsahovat odpovědi na jednotlivé otázky Zhodnocení rovnosti žen a mužů v projektových žádost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Šeredová Purschová Adéla, PhDr. (MPSV)</cp:lastModifiedBy>
  <dcterms:modified xsi:type="dcterms:W3CDTF">2012-03-19T11:32:39Z</dcterms:modified>
  <cp:revision>576</cp:revision>
  <dc:subject/>
  <dc:title>Snímek 1</dc:title>
</cp:coreProperties>
</file>